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EC9-19D3-4E15-A64D-570EBB7D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2C4-8984-46EB-83BE-AF348EA9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AA6-6B28-4089-840A-EEA4F561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B6A-4390-45CB-A7E7-6661A0F1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F9E-9DA7-4B8F-839A-0E9685BA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F9D-4A4A-4716-A273-9E47A6D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11F-EEA4-4C47-8AAC-4FC8376D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9E2-B039-4A10-8C6E-2110CB8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86E-D9B6-4F3A-9843-E77EC4C7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163-2248-496B-9B67-E2306697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949-4C3E-4680-B5FE-8F5B33B3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282-0039-460F-978A-1DF9E3AA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3A06-A040-4E03-862C-0E1135CA1D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14479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600" spc="-1" strike="noStrike">
                <a:solidFill>
                  <a:srgbClr val="000062"/>
                </a:solidFill>
                <a:latin typeface="Monotype Corsiva"/>
              </a:rPr>
              <a:t>Živo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2000"/>
                </a:solidFill>
                <a:latin typeface="Book Antiqua"/>
              </a:rPr>
              <a:t>Pošlete tento vzkaz těm li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02000"/>
                </a:solidFill>
                <a:latin typeface="Book Antiqua"/>
              </a:rPr>
              <a:t>kteří pro vás něco znamenají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228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…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stejně jako já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45720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8c6700"/>
                </a:solidFill>
                <a:latin typeface="Book Antiqua"/>
              </a:rPr>
              <a:t>…</a:t>
            </a:r>
            <a:r>
              <a:rPr b="1" lang="en-US" sz="2400" spc="-1" strike="noStrike">
                <a:solidFill>
                  <a:srgbClr val="8c6700"/>
                </a:solidFill>
                <a:latin typeface="Book Antiqua"/>
              </a:rPr>
              <a:t>těm, kteří na vás jakýmko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6700"/>
                </a:solidFill>
                <a:latin typeface="Book Antiqua"/>
              </a:rPr>
              <a:t>                             </a:t>
            </a:r>
            <a:r>
              <a:rPr b="1" lang="en-US" sz="2400" spc="-1" strike="noStrike">
                <a:solidFill>
                  <a:srgbClr val="8c6700"/>
                </a:solidFill>
                <a:latin typeface="Book Antiqua"/>
              </a:rPr>
              <a:t>způsobem zapůsobi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724280"/>
            <a:ext cx="518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47200"/>
                </a:solidFill>
                <a:latin typeface="Book Antiqua"/>
              </a:rPr>
              <a:t> </a:t>
            </a:r>
            <a:r>
              <a:rPr b="1" lang="en-US" sz="2500" spc="-1" strike="noStrike">
                <a:solidFill>
                  <a:srgbClr val="b05800"/>
                </a:solidFill>
                <a:latin typeface="Book Antiqua"/>
              </a:rPr>
              <a:t>…</a:t>
            </a:r>
            <a:r>
              <a:rPr b="1" lang="en-US" sz="2500" spc="-1" strike="noStrike">
                <a:solidFill>
                  <a:srgbClr val="b05800"/>
                </a:solidFill>
                <a:latin typeface="Book Antiqua"/>
              </a:rPr>
              <a:t>těm, kteří vás přiměli k úsměvu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05800"/>
                </a:solidFill>
                <a:latin typeface="Book Antiqua"/>
              </a:rPr>
              <a:t>když jste to opravdu potřeboval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724280"/>
            <a:ext cx="5333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Book Antiqua"/>
              </a:rPr>
              <a:t>…</a:t>
            </a:r>
            <a:r>
              <a:rPr b="1" lang="en-US" sz="2500" spc="-1" strike="noStrike">
                <a:solidFill>
                  <a:srgbClr val="003300"/>
                </a:solidFill>
                <a:latin typeface="Book Antiqua"/>
              </a:rPr>
              <a:t>těm, kteří vám ukazují tu lepší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Book Antiqua"/>
              </a:rPr>
              <a:t>stránku věcí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00"/>
                </a:solidFill>
                <a:latin typeface="Book Antiqua"/>
              </a:rPr>
              <a:t>když jste úplně na dně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41972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3399"/>
                </a:solidFill>
                <a:latin typeface="Book Antiqua"/>
              </a:rPr>
              <a:t>…</a:t>
            </a:r>
            <a:r>
              <a:rPr b="1" lang="en-US" sz="2500" spc="-1" strike="noStrike">
                <a:solidFill>
                  <a:srgbClr val="333399"/>
                </a:solidFill>
                <a:latin typeface="Book Antiqua"/>
              </a:rPr>
              <a:t>těm, jejichž přátelství si vážíte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1911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těm, kteří jsou ve vašem život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tolik zapotřebí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33"/>
                </a:solidFill>
                <a:latin typeface="Book Antiqua"/>
              </a:rPr>
              <a:t>Když to nepošlete dál, nezoufejt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33"/>
                </a:solidFill>
                <a:latin typeface="Book Antiqua"/>
              </a:rPr>
              <a:t>vám se nic špatného nesta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84240" y="609480"/>
            <a:ext cx="5410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Přijdete jen o jednu příležitost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jak rozsvětlit něčí den touto zprávou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7720" y="4572000"/>
            <a:ext cx="5334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Book Antiqua"/>
              </a:rPr>
              <a:t>Život se neměří počtem nádechů a výdech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Book Antiqua"/>
              </a:rPr>
              <a:t>ale chvílemi, které nám vzaly dech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6094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V životě jsou chvíle, kdy vám někdo chy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tak moc, že byste ho chtěli vytáhn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ze svých snů a skutečně ho objíma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28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Book Antiqua"/>
              </a:rPr>
              <a:t>Takže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22520" y="0"/>
            <a:ext cx="58975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9999"/>
                </a:solidFill>
                <a:latin typeface="Book Antiqua"/>
              </a:rPr>
              <a:t> </a:t>
            </a:r>
            <a:r>
              <a:rPr b="1" lang="en-US" sz="3500" spc="-1" strike="noStrike">
                <a:solidFill>
                  <a:srgbClr val="ff9999"/>
                </a:solidFill>
                <a:latin typeface="Book Antiqua"/>
              </a:rPr>
              <a:t>Good                         Luck 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533520"/>
            <a:ext cx="57150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Book Antiqua"/>
              </a:rPr>
              <a:t>Když se zavře jedna brána ke štěstí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Book Antiqua"/>
              </a:rPr>
              <a:t>další se otevírá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Book Antiqua"/>
              </a:rPr>
              <a:t>ale my se často tak dlouho dívá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Book Antiqua"/>
              </a:rPr>
              <a:t>na zavřenou bránu, že si nevšimneme té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Book Antiqua"/>
              </a:rPr>
              <a:t>která se pro nás už otevře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9720" y="7621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Nezajímejte se o vzhled, může klama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Nezajímejte se o bohatství, i to odvane pryč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Najděte někoho, kdo vás přiměje k úsměvu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protože stačí jenom jeden úsměv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aby se temný den zdál jasnější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Najděte někoho, kdo přiměje vaše srdc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540054"/>
                </a:solidFill>
                <a:latin typeface="Book Antiqua"/>
              </a:rPr>
              <a:t>aby se smálo</a:t>
            </a:r>
            <a:r>
              <a:rPr b="1" lang="en-US" sz="1800" spc="-1" strike="noStrike">
                <a:solidFill>
                  <a:srgbClr val="540054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Sněte o tom, o čem chcete sní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jděte tam, kam chcete jí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buďte tím, kým chcete bý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protože život je jen je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 jen jedna šance dělat všechny věc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které chcete děl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6960" y="0"/>
            <a:ext cx="54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962520"/>
            <a:ext cx="5333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00048"/>
                </a:solidFill>
                <a:latin typeface="Book Antiqua"/>
              </a:rPr>
              <a:t>Kéž máte v životě dost štěstí, aby vám bylo dobř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00048"/>
                </a:solidFill>
                <a:latin typeface="Book Antiqua"/>
              </a:rPr>
              <a:t>dost zkoušek, abyste se stali silným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00048"/>
                </a:solidFill>
                <a:latin typeface="Book Antiqua"/>
              </a:rPr>
              <a:t>dost žalu, abyste zůstali lidm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00048"/>
                </a:solidFill>
                <a:latin typeface="Book Antiqua"/>
              </a:rPr>
              <a:t>dost naděje, abyste se stali šťastný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040" y="0"/>
            <a:ext cx="8466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520" y="304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Ti nejšťastnější nemusí nutn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mít to nejlepší z nejlepšíh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prostě se snaží získat co nejví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ze všeho, co jim přijde do ces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267080"/>
            <a:ext cx="5486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Book Antiqua"/>
              </a:rPr>
              <a:t>Ta nejskvělejší budoucnost bude vž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Book Antiqua"/>
              </a:rPr>
              <a:t>založena na zapomenutí minulost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Book Antiqua"/>
              </a:rPr>
              <a:t>nemůžete jít dál životem dok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Book Antiqua"/>
              </a:rPr>
              <a:t>nepřekonáte minulé chyby a srdcebo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0"/>
            <a:ext cx="5470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57280" y="0"/>
            <a:ext cx="63244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Když jste se narodili, plakali j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                    </a:t>
            </a: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a všichni kolem vás se usmív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Žijte tak svůj život až do konce, buďte tí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kdo se stále                                 usmívá, kdy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1" lang="cs-CZ" sz="2000" spc="-1" strike="noStrike">
                <a:solidFill>
                  <a:srgbClr val="ffffff"/>
                </a:solidFill>
                <a:latin typeface="Book Antiqua"/>
              </a:rPr>
              <a:t>všichni kolem                                        pláč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7:51:22Z</dcterms:created>
  <dc:creator>JUDr. Tomáš FLOREAN</dc:creator>
  <dc:description/>
  <dc:language>en-US</dc:language>
  <cp:lastModifiedBy>Radka Dušková</cp:lastModifiedBy>
  <dcterms:modified xsi:type="dcterms:W3CDTF">2004-03-18T12:57:43Z</dcterms:modified>
  <cp:revision>19</cp:revision>
  <dc:subject/>
  <dc:title>Snímek 1</dc:title>
</cp:coreProperties>
</file>